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5DC6-587E-4BFD-BCB1-1A2082B6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6958-57DB-4264-92A6-841C6E07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C70-42C5-4B92-96BA-1A41617F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7805-E6F1-4769-AD8D-71AB3663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E57C-2D01-4713-BA7A-93C11BC9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12E-8524-4BE2-A23F-9F680513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353-B5C5-452B-92EA-884B2916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974-F570-4ACD-A50B-BA1871BD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C6F-1254-4946-9406-162081F1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452-5B41-4801-B7B0-A8A09D09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8808-BB3B-4829-AD5D-FFF713DE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4D7-4355-47F0-9D97-E4E84037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EC50-1FD1-43F0-A89E-B09B67607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data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209680"/>
            <a:ext cx="22100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209680"/>
            <a:ext cx="24382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10280" y="2209680"/>
            <a:ext cx="17528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819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05480" y="247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6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0" y="3276360"/>
            <a:ext cx="91440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it of the above logical relation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ical relationship will assist to address many dataset design in the database hence using selection of health service from the assign service to a given health facility during regist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ssist managers in programming of services by knowing number of health facilities covering  a particular service which will let to scale up of the same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ssist to get the denominator of health facilities reported for a given ser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mpleteness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solidFill>
            <a:srgbClr val="cbd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19320" y="3200400"/>
          <a:ext cx="6429240" cy="228600"/>
        </p:xfrm>
        <a:graphic>
          <a:graphicData uri="http://schemas.openxmlformats.org/drawingml/2006/table">
            <a:tbl>
              <a:tblPr/>
              <a:tblGrid>
                <a:gridCol w="1071720"/>
                <a:gridCol w="1071360"/>
                <a:gridCol w="1071720"/>
                <a:gridCol w="1071360"/>
                <a:gridCol w="1071720"/>
                <a:gridCol w="107136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9547d"/>
                          </a:solidFill>
                          <a:latin typeface="LiberationSansBold"/>
                        </a:rPr>
                        <a:t>Na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c8dbea"/>
                      </a:solidFill>
                    </a:lnL>
                    <a:lnR w="720">
                      <a:solidFill>
                        <a:srgbClr val="c8dbea"/>
                      </a:solidFill>
                    </a:lnR>
                    <a:lnT w="720">
                      <a:solidFill>
                        <a:srgbClr val="c8dbea"/>
                      </a:solidFill>
                    </a:lnT>
                    <a:lnB w="720">
                      <a:solidFill>
                        <a:srgbClr val="c8dbea"/>
                      </a:solidFill>
                    </a:lnB>
                    <a:solidFill>
                      <a:srgbClr val="cbdd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9547d"/>
                          </a:solidFill>
                          <a:latin typeface="LiberationSansBold"/>
                        </a:rPr>
                        <a:t>Actu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c8dbea"/>
                      </a:solidFill>
                    </a:lnL>
                    <a:lnR w="720">
                      <a:solidFill>
                        <a:srgbClr val="c8dbea"/>
                      </a:solidFill>
                    </a:lnR>
                    <a:lnT w="720">
                      <a:solidFill>
                        <a:srgbClr val="c8dbea"/>
                      </a:solidFill>
                    </a:lnT>
                    <a:lnB w="720">
                      <a:solidFill>
                        <a:srgbClr val="c8dbea"/>
                      </a:solidFill>
                    </a:lnB>
                    <a:solidFill>
                      <a:srgbClr val="cbdd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9547d"/>
                          </a:solidFill>
                          <a:latin typeface="LiberationSansBold"/>
                        </a:rPr>
                        <a:t>Targ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c8dbea"/>
                      </a:solidFill>
                    </a:lnL>
                    <a:lnR w="720">
                      <a:solidFill>
                        <a:srgbClr val="c8dbea"/>
                      </a:solidFill>
                    </a:lnR>
                    <a:lnT w="720">
                      <a:solidFill>
                        <a:srgbClr val="c8dbea"/>
                      </a:solidFill>
                    </a:lnT>
                    <a:lnB w="720">
                      <a:solidFill>
                        <a:srgbClr val="c8dbea"/>
                      </a:solidFill>
                    </a:lnB>
                    <a:solidFill>
                      <a:srgbClr val="cbdd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9547d"/>
                          </a:solidFill>
                          <a:latin typeface="LiberationSansBold"/>
                        </a:rPr>
                        <a:t>Perc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c8dbea"/>
                      </a:solidFill>
                    </a:lnL>
                    <a:lnR w="720">
                      <a:solidFill>
                        <a:srgbClr val="c8dbea"/>
                      </a:solidFill>
                    </a:lnR>
                    <a:lnT w="720">
                      <a:solidFill>
                        <a:srgbClr val="c8dbea"/>
                      </a:solidFill>
                    </a:lnT>
                    <a:lnB w="720">
                      <a:solidFill>
                        <a:srgbClr val="c8dbea"/>
                      </a:solidFill>
                    </a:lnB>
                    <a:solidFill>
                      <a:srgbClr val="cbdd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9547d"/>
                          </a:solidFill>
                          <a:latin typeface="LiberationSansBold"/>
                        </a:rPr>
                        <a:t>On 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c8dbea"/>
                      </a:solidFill>
                    </a:lnL>
                    <a:lnR w="720">
                      <a:solidFill>
                        <a:srgbClr val="c8dbea"/>
                      </a:solidFill>
                    </a:lnR>
                    <a:lnT w="720">
                      <a:solidFill>
                        <a:srgbClr val="c8dbea"/>
                      </a:solidFill>
                    </a:lnT>
                    <a:lnB w="720">
                      <a:solidFill>
                        <a:srgbClr val="c8dbea"/>
                      </a:solidFill>
                    </a:lnB>
                    <a:solidFill>
                      <a:srgbClr val="cbdd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9547d"/>
                          </a:solidFill>
                          <a:latin typeface="LiberationSansBold"/>
                        </a:rPr>
                        <a:t>Perc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c8dbea"/>
                      </a:solidFill>
                    </a:lnL>
                    <a:lnR w="720">
                      <a:solidFill>
                        <a:srgbClr val="c8dbea"/>
                      </a:solidFill>
                    </a:lnR>
                    <a:lnT w="720">
                      <a:solidFill>
                        <a:srgbClr val="c8dbea"/>
                      </a:solidFill>
                    </a:lnT>
                    <a:lnB w="720">
                      <a:solidFill>
                        <a:srgbClr val="c8dbea"/>
                      </a:solidFill>
                    </a:lnB>
                    <a:solidFill>
                      <a:srgbClr val="cbddeb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762120" y="1981080"/>
            <a:ext cx="15238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unit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2514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05120" y="3429000"/>
            <a:ext cx="1981080" cy="1599480"/>
            <a:chOff x="1905120" y="3429000"/>
            <a:chExt cx="1981080" cy="1599480"/>
          </a:xfrm>
        </p:grpSpPr>
        <p:sp>
          <p:nvSpPr>
            <p:cNvPr id="61" name=""/>
            <p:cNvSpPr/>
            <p:nvPr/>
          </p:nvSpPr>
          <p:spPr>
            <a:xfrm>
              <a:off x="1905120" y="4087800"/>
              <a:ext cx="1981080" cy="940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ace t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Reports Rece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819520" y="3429000"/>
              <a:ext cx="0" cy="65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200400" y="1905120"/>
            <a:ext cx="1752120" cy="1218960"/>
            <a:chOff x="3200400" y="1905120"/>
            <a:chExt cx="1752120" cy="1218960"/>
          </a:xfrm>
        </p:grpSpPr>
        <p:sp>
          <p:nvSpPr>
            <p:cNvPr id="64" name=""/>
            <p:cNvSpPr/>
            <p:nvPr/>
          </p:nvSpPr>
          <p:spPr>
            <a:xfrm>
              <a:off x="3200400" y="1905120"/>
              <a:ext cx="17521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place t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pected Repor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88800" y="2438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038480" y="3429000"/>
            <a:ext cx="1981080" cy="1599480"/>
            <a:chOff x="4038480" y="3429000"/>
            <a:chExt cx="1981080" cy="1599480"/>
          </a:xfrm>
        </p:grpSpPr>
        <p:sp>
          <p:nvSpPr>
            <p:cNvPr id="67" name=""/>
            <p:cNvSpPr/>
            <p:nvPr/>
          </p:nvSpPr>
          <p:spPr>
            <a:xfrm>
              <a:off x="4038480" y="4087800"/>
              <a:ext cx="1981080" cy="940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ace t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centage or %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f the 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ort Rece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952880" y="3429000"/>
              <a:ext cx="0" cy="65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257800" y="1981080"/>
            <a:ext cx="1752120" cy="1218960"/>
            <a:chOff x="5257800" y="1981080"/>
            <a:chExt cx="1752120" cy="1218960"/>
          </a:xfrm>
        </p:grpSpPr>
        <p:sp>
          <p:nvSpPr>
            <p:cNvPr id="70" name=""/>
            <p:cNvSpPr/>
            <p:nvPr/>
          </p:nvSpPr>
          <p:spPr>
            <a:xfrm>
              <a:off x="5257800" y="1981080"/>
              <a:ext cx="17521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ace t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Timely Re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46200" y="25142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72200" y="3429000"/>
            <a:ext cx="2361960" cy="1599480"/>
            <a:chOff x="6172200" y="3429000"/>
            <a:chExt cx="2361960" cy="1599480"/>
          </a:xfrm>
        </p:grpSpPr>
        <p:sp>
          <p:nvSpPr>
            <p:cNvPr id="73" name=""/>
            <p:cNvSpPr/>
            <p:nvPr/>
          </p:nvSpPr>
          <p:spPr>
            <a:xfrm>
              <a:off x="6172200" y="4087800"/>
              <a:ext cx="2361960" cy="940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ace t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centage or %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ly Reports Recei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262280" y="3429000"/>
              <a:ext cx="0" cy="65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02:12Z</dcterms:created>
  <dc:creator>SAMUEL</dc:creator>
  <dc:description/>
  <dc:language>en-US</dc:language>
  <cp:lastModifiedBy>SAMUEL</cp:lastModifiedBy>
  <dcterms:modified xsi:type="dcterms:W3CDTF">2011-08-23T13:29:56Z</dcterms:modified>
  <cp:revision>3</cp:revision>
  <dc:subject/>
  <dc:title>Slide 1</dc:title>
</cp:coreProperties>
</file>