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80FE-490F-4B8D-B9D2-B97ECFAA1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732A-CF52-440D-9B09-27836D04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B2C4-BE72-4709-AA62-E02788A28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CA7B-171C-4B8A-A59E-1565EC2DB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810E-73EE-4514-86F3-8CDE9AAE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3A6A-AB93-496A-B8E7-5D6CFE88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502F-0793-41F2-AC4F-A63ABFB3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3769-56ED-4DD9-89CD-48E6E2D3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8090-E9AF-4028-8089-248C6D6C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96C5-171A-41BC-9ADA-4C8C64D6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52DF-BF8B-4A13-99DE-C43373CE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0134-0548-41B1-8AC0-81234356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FDAA-BF64-4999-91EE-7DF2AF5E9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al data relation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209680"/>
            <a:ext cx="22100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2209680"/>
            <a:ext cx="24382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10280" y="2209680"/>
            <a:ext cx="17528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2819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05480" y="2475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: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60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: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686800" cy="5943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V="1">
            <a:off x="0" y="3276360"/>
            <a:ext cx="91440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rit of the above logical relationsh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gical relationship will assist to address many dataset design in the database hence using selection of health service from the assign service to a given health facility during regist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assist managers in programming of services by knowing number of health facilities covering  a particular service which will let to scale up of the same.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assist to get the denominator of health facilities reported for a given serv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completeness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solidFill>
            <a:srgbClr val="cbdd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219320" y="3200400"/>
          <a:ext cx="6429240" cy="228600"/>
        </p:xfrm>
        <a:graphic>
          <a:graphicData uri="http://schemas.openxmlformats.org/drawingml/2006/table">
            <a:tbl>
              <a:tblPr/>
              <a:tblGrid>
                <a:gridCol w="1071720"/>
                <a:gridCol w="1071360"/>
                <a:gridCol w="1071720"/>
                <a:gridCol w="1071360"/>
                <a:gridCol w="1071720"/>
                <a:gridCol w="107136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9547d"/>
                          </a:solidFill>
                          <a:latin typeface="LiberationSansBold"/>
                        </a:rPr>
                        <a:t>Na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c8dbea"/>
                      </a:solidFill>
                    </a:lnL>
                    <a:lnR w="720">
                      <a:solidFill>
                        <a:srgbClr val="c8dbea"/>
                      </a:solidFill>
                    </a:lnR>
                    <a:lnT w="720">
                      <a:solidFill>
                        <a:srgbClr val="c8dbea"/>
                      </a:solidFill>
                    </a:lnT>
                    <a:lnB w="720">
                      <a:solidFill>
                        <a:srgbClr val="c8dbea"/>
                      </a:solidFill>
                    </a:lnB>
                    <a:solidFill>
                      <a:srgbClr val="cbdd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9547d"/>
                          </a:solidFill>
                          <a:latin typeface="LiberationSansBold"/>
                        </a:rPr>
                        <a:t>Actu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c8dbea"/>
                      </a:solidFill>
                    </a:lnL>
                    <a:lnR w="720">
                      <a:solidFill>
                        <a:srgbClr val="c8dbea"/>
                      </a:solidFill>
                    </a:lnR>
                    <a:lnT w="720">
                      <a:solidFill>
                        <a:srgbClr val="c8dbea"/>
                      </a:solidFill>
                    </a:lnT>
                    <a:lnB w="720">
                      <a:solidFill>
                        <a:srgbClr val="c8dbea"/>
                      </a:solidFill>
                    </a:lnB>
                    <a:solidFill>
                      <a:srgbClr val="cbdd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9547d"/>
                          </a:solidFill>
                          <a:latin typeface="LiberationSansBold"/>
                        </a:rPr>
                        <a:t>Targ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c8dbea"/>
                      </a:solidFill>
                    </a:lnL>
                    <a:lnR w="720">
                      <a:solidFill>
                        <a:srgbClr val="c8dbea"/>
                      </a:solidFill>
                    </a:lnR>
                    <a:lnT w="720">
                      <a:solidFill>
                        <a:srgbClr val="c8dbea"/>
                      </a:solidFill>
                    </a:lnT>
                    <a:lnB w="720">
                      <a:solidFill>
                        <a:srgbClr val="c8dbea"/>
                      </a:solidFill>
                    </a:lnB>
                    <a:solidFill>
                      <a:srgbClr val="cbdd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9547d"/>
                          </a:solidFill>
                          <a:latin typeface="LiberationSansBold"/>
                        </a:rPr>
                        <a:t>Perc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c8dbea"/>
                      </a:solidFill>
                    </a:lnL>
                    <a:lnR w="720">
                      <a:solidFill>
                        <a:srgbClr val="c8dbea"/>
                      </a:solidFill>
                    </a:lnR>
                    <a:lnT w="720">
                      <a:solidFill>
                        <a:srgbClr val="c8dbea"/>
                      </a:solidFill>
                    </a:lnT>
                    <a:lnB w="720">
                      <a:solidFill>
                        <a:srgbClr val="c8dbea"/>
                      </a:solidFill>
                    </a:lnB>
                    <a:solidFill>
                      <a:srgbClr val="cbdd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9547d"/>
                          </a:solidFill>
                          <a:latin typeface="LiberationSansBold"/>
                        </a:rPr>
                        <a:t>On 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c8dbea"/>
                      </a:solidFill>
                    </a:lnL>
                    <a:lnR w="720">
                      <a:solidFill>
                        <a:srgbClr val="c8dbea"/>
                      </a:solidFill>
                    </a:lnR>
                    <a:lnT w="720">
                      <a:solidFill>
                        <a:srgbClr val="c8dbea"/>
                      </a:solidFill>
                    </a:lnT>
                    <a:lnB w="720">
                      <a:solidFill>
                        <a:srgbClr val="c8dbea"/>
                      </a:solidFill>
                    </a:lnB>
                    <a:solidFill>
                      <a:srgbClr val="cbdd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9547d"/>
                          </a:solidFill>
                          <a:latin typeface="LiberationSansBold"/>
                        </a:rPr>
                        <a:t>Perc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c8dbea"/>
                      </a:solidFill>
                    </a:lnL>
                    <a:lnR w="720">
                      <a:solidFill>
                        <a:srgbClr val="c8dbea"/>
                      </a:solidFill>
                    </a:lnR>
                    <a:lnT w="720">
                      <a:solidFill>
                        <a:srgbClr val="c8dbea"/>
                      </a:solidFill>
                    </a:lnT>
                    <a:lnB w="720">
                      <a:solidFill>
                        <a:srgbClr val="c8dbea"/>
                      </a:solidFill>
                    </a:lnB>
                    <a:solidFill>
                      <a:srgbClr val="cbddeb"/>
                    </a:solidFill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762120" y="1981080"/>
            <a:ext cx="15238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lace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gunit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2514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905120" y="3429000"/>
            <a:ext cx="1981080" cy="1599480"/>
            <a:chOff x="1905120" y="3429000"/>
            <a:chExt cx="1981080" cy="1599480"/>
          </a:xfrm>
        </p:grpSpPr>
        <p:sp>
          <p:nvSpPr>
            <p:cNvPr id="61" name=""/>
            <p:cNvSpPr/>
            <p:nvPr/>
          </p:nvSpPr>
          <p:spPr>
            <a:xfrm>
              <a:off x="1905120" y="4087800"/>
              <a:ext cx="1981080" cy="940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place t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otal Reports Recei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2819520" y="3429000"/>
              <a:ext cx="0" cy="65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200400" y="1905120"/>
            <a:ext cx="1752120" cy="1218960"/>
            <a:chOff x="3200400" y="1905120"/>
            <a:chExt cx="1752120" cy="1218960"/>
          </a:xfrm>
        </p:grpSpPr>
        <p:sp>
          <p:nvSpPr>
            <p:cNvPr id="64" name=""/>
            <p:cNvSpPr/>
            <p:nvPr/>
          </p:nvSpPr>
          <p:spPr>
            <a:xfrm>
              <a:off x="3200400" y="1905120"/>
              <a:ext cx="175212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place t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xpected Repor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88800" y="2438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4038480" y="3429000"/>
            <a:ext cx="1981080" cy="1599480"/>
            <a:chOff x="4038480" y="3429000"/>
            <a:chExt cx="1981080" cy="1599480"/>
          </a:xfrm>
        </p:grpSpPr>
        <p:sp>
          <p:nvSpPr>
            <p:cNvPr id="67" name=""/>
            <p:cNvSpPr/>
            <p:nvPr/>
          </p:nvSpPr>
          <p:spPr>
            <a:xfrm>
              <a:off x="4038480" y="4087800"/>
              <a:ext cx="1981080" cy="940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place t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ercentage or %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f the tot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port Recei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4952880" y="3429000"/>
              <a:ext cx="0" cy="65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257800" y="1981080"/>
            <a:ext cx="1752120" cy="1218960"/>
            <a:chOff x="5257800" y="1981080"/>
            <a:chExt cx="1752120" cy="1218960"/>
          </a:xfrm>
        </p:grpSpPr>
        <p:sp>
          <p:nvSpPr>
            <p:cNvPr id="70" name=""/>
            <p:cNvSpPr/>
            <p:nvPr/>
          </p:nvSpPr>
          <p:spPr>
            <a:xfrm>
              <a:off x="5257800" y="1981080"/>
              <a:ext cx="175212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place t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otal Timely Repo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046200" y="25142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6172200" y="3429000"/>
            <a:ext cx="2361960" cy="1599480"/>
            <a:chOff x="6172200" y="3429000"/>
            <a:chExt cx="2361960" cy="1599480"/>
          </a:xfrm>
        </p:grpSpPr>
        <p:sp>
          <p:nvSpPr>
            <p:cNvPr id="73" name=""/>
            <p:cNvSpPr/>
            <p:nvPr/>
          </p:nvSpPr>
          <p:spPr>
            <a:xfrm>
              <a:off x="6172200" y="4087800"/>
              <a:ext cx="2361960" cy="940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place t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ercentage or % o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imely Reports Receiv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7262280" y="3429000"/>
              <a:ext cx="0" cy="65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12:02:12Z</dcterms:created>
  <dc:creator>SAMUEL</dc:creator>
  <dc:description/>
  <dc:language>en-US</dc:language>
  <cp:lastModifiedBy>SAMUEL</cp:lastModifiedBy>
  <dcterms:modified xsi:type="dcterms:W3CDTF">2011-08-23T13:29:56Z</dcterms:modified>
  <cp:revision>3</cp:revision>
  <dc:subject/>
  <dc:title>Slide 1</dc:title>
</cp:coreProperties>
</file>